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8971-595D-4488-9862-7432DCB9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enos dias esta es mi fami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EBF-ED64-4E83-8BEF-66B92E64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5AD-68A7-40F9-A55E-345F9D97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E4D-E344-446C-BFE4-76DF9611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D23-BB93-4BA3-8C93-BCC423A1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8043-07FB-4B0E-8303-DDE028BB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402B-CBEF-4340-B1FD-81D22734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FDC-90F9-48DD-9F9B-056E2F7A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32D5-7664-44F9-99C7-9DD47A4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C52-4B01-4659-A1BE-A3F6ED4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21FC-5CD2-4172-8EF1-667F645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2F50-AFC0-472A-9761-6AFEEE0A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81E-6926-426B-86BE-C953E5C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E53-64F6-4954-A0B4-E5C5C10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773-91A9-4F54-8318-04C0C8B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C086-B7E6-41F6-9FA5-0C1EEFEE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1FF8-9BBF-4370-9737-AFA1D7E1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616B-5780-494B-8382-CF2E6662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96C-8840-4041-8BD8-790A28A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C8F-F8CD-4AEE-9C4A-29371F7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311-2C50-4215-95C3-B616399D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7C5-1221-4047-91AF-B8244C0A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B47-1CBA-48DB-A494-8D88D51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905-A133-4DC4-B91A-472274D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179-9F12-43DC-8E73-88E6A2C8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02E5-B559-40D1-A265-1BE4C8777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93D9-61FD-4A53-8755-8F4A789E6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  <a:ea typeface="Arial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gency FB"/>
                <a:ea typeface="Arial"/>
              </a:rPr>
              <a:t>El árbol geneològic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briella black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-10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7T07:22:43Z</dcterms:created>
  <dc:creator>bchs</dc:creator>
  <dc:description/>
  <dc:language>en-US</dc:language>
  <cp:lastModifiedBy>bchs</cp:lastModifiedBy>
  <dcterms:modified xsi:type="dcterms:W3CDTF">2003-12-27T07:46:22Z</dcterms:modified>
  <cp:revision>2</cp:revision>
  <dc:subject/>
  <dc:title> El árbol geneològico</dc:title>
</cp:coreProperties>
</file>